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DCA1-5F84-4924-A1F5-012FD54C0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A19A-4B65-4A0F-A405-CD08FD4FD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80C-68C2-49A1-B1C4-B55BF6B4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B7B-5A78-4CE4-8381-55F614B1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FC6-7320-4CD6-AD0B-66CBE56F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081-6216-4ACE-9F9D-DABE8457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448-4089-4DF2-918D-9A8BA286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C36-76CA-478B-AD54-3D047CBC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C83-A350-470C-83FD-38E9B808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D58-2C02-4A21-83F9-F794C15A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D0C-2CA9-4ECF-9B26-FCEF75BE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F23-5ACC-47E8-885F-8CF630D4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47B-38B8-45DD-ACDA-6815E7DB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D61-5C6C-4D9D-B9C1-F90D0A07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4F25-A81B-4D17-86C0-6F9FB98495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08F4-28ED-43DD-9172-96C59BC2D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1488b"/>
                </a:solidFill>
                <a:latin typeface="comic"/>
              </a:rPr>
              <a:t>AutoCAD 2004</a:t>
            </a:r>
            <a:br>
              <a:rPr sz="6600"/>
            </a:br>
            <a:r>
              <a:rPr b="1" lang="en-US" sz="2400" spc="-1" strike="noStrike">
                <a:solidFill>
                  <a:srgbClr val="11488b"/>
                </a:solidFill>
                <a:latin typeface="comic"/>
              </a:rPr>
              <a:t>Lecture 2</a:t>
            </a:r>
            <a:br>
              <a:rPr sz="6600"/>
            </a:br>
            <a:r>
              <a:rPr b="1" lang="en-US" sz="3600" spc="-1" strike="noStrike">
                <a:solidFill>
                  <a:srgbClr val="11488b"/>
                </a:solidFill>
                <a:latin typeface="Arial Black"/>
              </a:rPr>
              <a:t>By</a:t>
            </a:r>
            <a:br>
              <a:rPr sz="6600"/>
            </a:br>
            <a:r>
              <a:rPr b="1" lang="en-U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Haseeb Jamal</a:t>
            </a:r>
            <a:br>
              <a:rPr sz="3200"/>
            </a:br>
            <a:r>
              <a:rPr b="1" lang="en-U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M. Rizwan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Arranged by UET, Computer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135252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E:\Back up\SJ.jpg"/>
          <p:cNvPicPr/>
          <p:nvPr/>
        </p:nvPicPr>
        <p:blipFill>
          <a:blip r:embed="rId3"/>
          <a:stretch/>
        </p:blipFill>
        <p:spPr>
          <a:xfrm>
            <a:off x="8296200" y="0"/>
            <a:ext cx="84780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066680" y="5410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seebjamal_stn@yahoo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aboutciv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5CAE-23A1-4948-A5B1-727DFD754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ion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t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i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E9B9-247B-4EA7-84D0-9D0D19788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m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504E-F7AB-4D1C-A2F6-A42E9FE07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l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7AC5-ECFD-427C-B726-CB1CE756A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boutcivil.com/contact-u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CAD Video Tuto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boutcivil.com/autocad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CAD E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aboutcivil.com/autocad-ebooks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AA0-4982-40E5-8A0F-EC6989EF8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anif Jamal</dc:creator>
  <dc:description/>
  <dc:language>en-US</dc:language>
  <cp:lastModifiedBy>Hanif Jamal</cp:lastModifiedBy>
  <dcterms:modified xsi:type="dcterms:W3CDTF">2010-02-19T09:12:23Z</dcterms:modified>
  <cp:revision>149</cp:revision>
  <dc:subject/>
  <dc:title>AutoCAD</dc:title>
</cp:coreProperties>
</file>